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4E9-2BF3-42CA-ADD2-7A626DD8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925-2933-40A9-BAE9-261C96B6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20C-E5CF-4365-87B1-F5413664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7E9-0420-4755-B596-07373D57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0D5-39D7-4C3C-A28D-E1CDADFC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B63-96F3-48B1-AD82-D37C2791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BD5-34CB-40AA-A737-2FC19C9D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7A2-2FE4-401B-9379-B9E80A05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511-27BF-4AEB-9D5E-9B3A35D5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9D9-8291-42E3-B8A1-20F4145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B5D-944C-4A9B-AECA-9E5A3181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499-D8FC-4C37-B94D-1234B44B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3728-B60C-41E2-8B62-649AF51C9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0104891EainVAqxUG_ph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0"/>
            <a:ext cx="6858000" cy="78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من غيرك في ذي الحياة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يا ربُّ يبقى أو يدوم (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Times New Roman (Arabic)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من غيرك يُعطي العزاء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أيضاً شفاءً للهموم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Arabic Transparent"/>
              </a:rPr>
              <a:t>من غيرك يا منقذي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Arabic Transparent"/>
              </a:rPr>
              <a:t>ربي رجائي سيدي (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Arabic Transparent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Times New Roman"/>
                <a:cs typeface="Times New Roman (Arabic)"/>
              </a:rPr>
              <a:t>يبقى وأنت لي الصديق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Times New Roman"/>
                <a:cs typeface="Times New Roman (Arabic)"/>
              </a:rPr>
              <a:t>أمسي ويومي وغدي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1708879FlmVuqGpXX_ph" descr=""/>
          <p:cNvPicPr/>
          <p:nvPr/>
        </p:nvPicPr>
        <p:blipFill>
          <a:blip r:embed="rId1"/>
          <a:stretch/>
        </p:blipFill>
        <p:spPr>
          <a:xfrm>
            <a:off x="-53352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0"/>
            <a:ext cx="3429000" cy="10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غيرك يا خالقي          يسمع صوتي ويجيب (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عارفاً كل الأنين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غيرك يبقى قر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غيرك يا منقذي         ربي رجائي سيدي(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بقى وأنت لي الصديق       أمسي ويومي وغ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13207ziWiaDmYSk_ph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533520"/>
            <a:ext cx="4191120" cy="80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غيرك ربي يسوع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شفي جروحي يا طبيب 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(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ا فاحصاً عمق الضلوع      مسيحي يا أغلى حبي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غيرك في ذي الحياة    يا ربُّ يبقى أو يدوم (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ن غيرك يُعطي العزاء     أيضاً شفاءً للهمو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2-13T04:16:45Z</dcterms:modified>
  <cp:revision>4</cp:revision>
  <dc:subject/>
  <dc:title>PowerPoint Presentation</dc:title>
</cp:coreProperties>
</file>